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png" ContentType="image/png"/>
  <Override PartName="/ppt/media/image1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5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5.png" ContentType="image/png"/>
  <Override PartName="/ppt/media/image40.png" ContentType="image/png"/>
  <Override PartName="/ppt/media/image42.png" ContentType="image/png"/>
  <Override PartName="/ppt/media/image45.png" ContentType="image/png"/>
  <Override PartName="/ppt/media/image6.jpeg" ContentType="image/jpeg"/>
  <Override PartName="/ppt/media/image46.png" ContentType="image/png"/>
  <Override PartName="/ppt/media/image49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43.png" ContentType="image/png"/>
  <Override PartName="/ppt/media/image47.jpeg" ContentType="image/jpeg"/>
  <Override PartName="/ppt/media/image52.jpeg" ContentType="image/jpeg"/>
  <Override PartName="/ppt/media/image55.png" ContentType="image/png"/>
  <Override PartName="/ppt/media/image7.jpeg" ContentType="image/jpeg"/>
  <Override PartName="/ppt/media/image28.jpeg" ContentType="image/jpeg"/>
  <Override PartName="/ppt/media/image56.png" ContentType="image/png"/>
  <Override PartName="/ppt/media/image37.png" ContentType="image/png"/>
  <Override PartName="/ppt/media/image36.png" ContentType="image/png"/>
  <Override PartName="/ppt/media/image31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9.jpeg" ContentType="image/jpeg"/>
  <Override PartName="/ppt/media/image48.png" ContentType="image/png"/>
  <Override PartName="/ppt/media/image27.jpeg" ContentType="image/jpeg"/>
  <Override PartName="/ppt/media/image50.jpeg" ContentType="image/jpeg"/>
  <Override PartName="/ppt/media/image44.png" ContentType="image/png"/>
  <Override PartName="/ppt/media/image13.jpeg" ContentType="image/jpeg"/>
  <Override PartName="/ppt/media/image2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999D-CC24-4154-9C55-C354F7A1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86B-DEEE-4B13-BA91-ED27CAE2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AEE-5623-4699-A950-4EE5E9B5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386-5B62-415D-9858-D31F2743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608C-3F4D-4745-A6FF-9DC4281F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1D31-180A-4CFF-AF8B-70463AE6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2F48-341C-4CD5-9D4E-FC246CC0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D1A2-7983-4C5D-ACAE-F008E415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248E-35B5-40BA-8762-1F446558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B776-AE58-4BA9-9CE0-AEAF175A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C230-F10B-42CD-907B-66BC3078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236-29A1-4DE3-8727-AC7D8034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D34F-A774-4843-B38F-033111C2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0296-16B3-4421-9E70-D6ABCFA7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40B8-488E-4A3B-8791-7541C1BE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C6C7-7D02-421E-8BD0-3DD384FB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E78A-07C3-4120-A189-33824F6F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89C0C-522F-464D-BD21-8E661263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46CC8-4A3C-40DF-B42D-60FD3E54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3C1C3-42D3-4604-8144-F9C9151B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E7993-FEE2-457E-8017-BF3AE7E4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0BCAF-84A0-4B0C-A4A4-73F62B09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1A0A-2637-470A-AAF7-C5E46560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8FC83-02A3-45CE-ADFF-3BDD288D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1E7F3-A2F0-4A5E-8074-D63F5594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D1787-1DFF-4A8F-B290-CFD58C9A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C936C-F0D0-4837-9409-5058C238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9DB98-7FEF-4145-AEA5-545257F0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716C2-6684-4492-9B8B-3541374E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27599-016C-43D5-BBF0-827F9AC3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573FA-E36A-4DF5-8B78-CE93221D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1D821-1A73-40BC-BE8A-5F94F3CC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6B898-26F2-4E85-BFDC-7F217A9A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1F20-7C99-4C01-BD56-7DD8D321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8F005-F415-455C-8AAB-41E6D7B5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F3798-BAC1-452C-BB84-480FDD00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99CCE-6B0D-4C6D-8CD3-7F0FADAF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9EC49-1872-4882-AF79-7DF2F505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66234-EDFF-47CF-9867-83EA855A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89447-ABF5-4731-ADF0-22BE4583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B30C4-06B9-48AF-BCA8-0E103A1B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F783-F4D0-4CA2-A805-120EC449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5D2AD-E422-4A60-8C33-EBDBC37D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4DD01-A9AC-4929-8B02-2EBF8093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7F9-0AF6-4454-B740-C0CDB71A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FB01A-E21E-48AA-94AB-C3BBA670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2FB8B-0B52-42E1-8784-D4BCC593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65D06-4A2B-4838-8576-8AF8D728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56443-5CC6-48F1-9E08-FDFAC53A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75AC8-40D5-4F04-BE58-B4AD6CE9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79113-AFAB-4F27-B669-F35261E5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3CF29-06E0-49AC-8B74-ABB3A510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714B2-1525-4174-A3CB-E231E913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ED135-12BD-4320-B020-671538B3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C2952-2AB8-4E30-A862-DBEA583A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761F-5242-4417-B0CD-62C690C3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1CF7E-4FFB-4C49-8C5C-4C92BC91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A4C96-F992-4A2A-8EB4-595CD5CB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7D2AA-B3A5-4962-9335-45DDE359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F35F1-3791-419A-BB67-B048DE4A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70252-9F19-499F-B372-FEF05771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CB0E0-370D-4156-8441-F12EB6E8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AD875-4D28-4B54-913A-D4386AEB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998B6-7CBB-42A9-A782-684CDD75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6BD7E-27A5-4087-9156-255AA763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AD421-BACD-4995-88A1-C2C26DF9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394B-7655-4B0C-903F-9297863A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9AC09-4D07-456C-B225-2DF33F78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2FB3D-5480-4015-A398-A74CF3B0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2C1FF-EA76-4A3E-8565-6251108D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1CE00-C0D2-483D-A607-92E7E6F9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2234F-92AD-46DF-9834-82CBCA00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F0A68-F4B1-44F8-A22C-E9DEC7D8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E6FFE-A10A-4847-B94A-5B0CA664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8D75B-4973-4003-ACFC-E155B6DD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3AF0D-7918-4185-99F6-4B2AE249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C79DE-03F6-40A5-A2F1-65255068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A43-B495-4A19-9675-78AF50B7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86B3C-7E7C-4A03-AD38-0AD319A4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21987-E4E9-4670-BA02-5309EF90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6A13E-F40B-4B8A-94CD-8BA1D657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09D32-AB36-48E3-86AE-12895AFB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3F15E-2631-4651-98A9-11E82440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665-75FB-42DD-ACD1-BF5FBB6C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6629-DCD3-4F9F-AC78-D3231940093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33D2-E0A5-45BD-913F-5E8EEFB11AD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B4F5-191B-41F5-9F65-997A505DEAB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1D2B-DA61-4014-B7B5-32BD08CEBD6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D172-5CFF-468D-B5EB-38D46D1345C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66A0-3BEA-4EC3-AA2D-FE7D2A34266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97B7-8504-4909-BB2F-A85C72C0E4D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619280" y="333360"/>
            <a:ext cx="7129440" cy="223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20e04"/>
                </a:solidFill>
                <a:latin typeface="Corbel"/>
              </a:rPr>
              <a:t>Биология </a:t>
            </a:r>
            <a:endParaRPr b="0" lang="en-US" sz="9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20e04"/>
                </a:solidFill>
                <a:latin typeface="Corbel"/>
              </a:rPr>
              <a:t>7 класс</a:t>
            </a:r>
            <a:endParaRPr b="0" lang="en-US" sz="9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автор: Воронина Е. В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учитель биологии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МБОУ «Гимназия №7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имени Героя России С. В. Василева»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г. Брянс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-181080" y="188640"/>
            <a:ext cx="950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Членистоногие </a:t>
            </a:r>
            <a:br>
              <a:rPr sz="4800"/>
            </a:b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(Ракообразные, Паукообразные, Насекомые)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Picture 9" descr="Картинка 4 из 163445"/>
          <p:cNvPicPr/>
          <p:nvPr/>
        </p:nvPicPr>
        <p:blipFill>
          <a:blip r:embed="rId1"/>
          <a:stretch/>
        </p:blipFill>
        <p:spPr>
          <a:xfrm>
            <a:off x="1042920" y="1484280"/>
            <a:ext cx="4105440" cy="30812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Картинка 73 из 379"/>
          <p:cNvPicPr/>
          <p:nvPr/>
        </p:nvPicPr>
        <p:blipFill>
          <a:blip r:embed="rId2"/>
          <a:stretch/>
        </p:blipFill>
        <p:spPr>
          <a:xfrm>
            <a:off x="5364000" y="2421000"/>
            <a:ext cx="3543480" cy="36068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Картинка 22 из 380"/>
          <p:cNvPicPr/>
          <p:nvPr/>
        </p:nvPicPr>
        <p:blipFill>
          <a:blip r:embed="rId3"/>
          <a:stretch/>
        </p:blipFill>
        <p:spPr>
          <a:xfrm>
            <a:off x="1042920" y="4149720"/>
            <a:ext cx="3384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645920" y="2491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rbel"/>
              </a:rPr>
              <a:t>Каковы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orbel"/>
              </a:rPr>
              <a:t>достоинства и недостатки </a:t>
            </a: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Corbel"/>
              </a:rPr>
              <a:t>наружного</a:t>
            </a:r>
            <a:r>
              <a:rPr b="1" lang="ru-RU" sz="4400" spc="-1" strike="noStrike">
                <a:solidFill>
                  <a:srgbClr val="002060"/>
                </a:solidFill>
                <a:latin typeface="Corbel"/>
              </a:rPr>
              <a:t> скелета?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Каковы преимущества 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Corbel"/>
              </a:rPr>
              <a:t>внутреннего</a:t>
            </a: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 скелета?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orbel"/>
              </a:rPr>
              <a:t>Достоинства 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1268280"/>
            <a:ext cx="405432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b2203"/>
                </a:solidFill>
                <a:latin typeface="Calibri"/>
                <a:ea typeface="Calibri"/>
              </a:rPr>
              <a:t>Наружного скеле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*проч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*прикрепление мышц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и обеспече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передвижения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*освоение новых способов перемещения (прыжки, полет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и рассел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044960" y="1268280"/>
            <a:ext cx="509904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b2203"/>
                </a:solidFill>
                <a:latin typeface="Corbel"/>
              </a:rPr>
              <a:t>Внутреннего скеле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*растет вместе с животны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*постоянно выполняет защитную функци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*не ограничивает размеры тел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*увеличивает скорость перемещения тела за счет большей специализации отдельных мышц и их групп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Низшие хордовые (ланцетник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3" name="Picture 7" descr="Картинка 107 из 141"/>
          <p:cNvPicPr/>
          <p:nvPr/>
        </p:nvPicPr>
        <p:blipFill>
          <a:blip r:embed="rId1"/>
          <a:stretch/>
        </p:blipFill>
        <p:spPr>
          <a:xfrm>
            <a:off x="1187280" y="1700280"/>
            <a:ext cx="75042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0800" y="1125000"/>
            <a:ext cx="832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Каковы </a:t>
            </a:r>
            <a:br>
              <a:rPr sz="4800"/>
            </a:b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типы соединения костей?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Прямоугольник 2"/>
          <p:cNvSpPr/>
          <p:nvPr/>
        </p:nvSpPr>
        <p:spPr>
          <a:xfrm>
            <a:off x="1116000" y="335772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7317"/>
                </a:solidFill>
                <a:latin typeface="Calibri"/>
              </a:rPr>
              <a:t>последний абза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17317"/>
                </a:solidFill>
                <a:latin typeface="Calibri"/>
              </a:rPr>
              <a:t>на стр. 194 учебн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Типы соединения косте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8360" y="3068280"/>
            <a:ext cx="842472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* Неподвижно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* Полуподвижно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* 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Corbel"/>
              </a:rPr>
              <a:t>Подвижное (</a:t>
            </a: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Corbel"/>
              </a:rPr>
              <a:t>суставы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b2203"/>
                </a:solidFill>
                <a:latin typeface="Corbel"/>
              </a:rPr>
              <a:t>Кости скелета позвоночных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b2203"/>
                </a:solidFill>
                <a:latin typeface="Corbel"/>
              </a:rPr>
              <a:t>имеют специальные места для прикрепления мышц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b2203"/>
                </a:solidFill>
                <a:latin typeface="Corbel"/>
              </a:rPr>
              <a:t>(прикрепляясь к двум костям скелета, соединенным через </a:t>
            </a:r>
            <a:r>
              <a:rPr b="1" i="1" lang="ru-RU" sz="2800" spc="-1" strike="noStrike">
                <a:solidFill>
                  <a:srgbClr val="4b2203"/>
                </a:solidFill>
                <a:latin typeface="Corbel"/>
              </a:rPr>
              <a:t>сустав</a:t>
            </a:r>
            <a:r>
              <a:rPr b="1" i="1" lang="ru-RU" sz="2000" spc="-1" strike="noStrike">
                <a:solidFill>
                  <a:srgbClr val="4b2203"/>
                </a:solidFill>
                <a:latin typeface="Corbel"/>
              </a:rPr>
              <a:t>, мышца приводит их в движение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90544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Строение 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свободных конечностей 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рычажного тип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0" name="Picture 10" descr="конечн"/>
          <p:cNvPicPr/>
          <p:nvPr/>
        </p:nvPicPr>
        <p:blipFill>
          <a:blip r:embed="rId1"/>
          <a:srcRect l="0" t="1611" r="0" b="5000"/>
          <a:stretch/>
        </p:blipFill>
        <p:spPr>
          <a:xfrm>
            <a:off x="971640" y="1700280"/>
            <a:ext cx="712944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8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Динамическая пауза 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(</a:t>
            </a:r>
            <a:r>
              <a:rPr b="1" i="1" lang="ru-RU" sz="3900" spc="-1" strike="noStrike">
                <a:solidFill>
                  <a:srgbClr val="572314"/>
                </a:solidFill>
                <a:latin typeface="Corbel"/>
              </a:rPr>
              <a:t>упражнения на разминку суставов</a:t>
            </a: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2664000" cy="2754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"/>
          <p:cNvPicPr/>
          <p:nvPr/>
        </p:nvPicPr>
        <p:blipFill>
          <a:blip r:embed="rId2"/>
          <a:stretch/>
        </p:blipFill>
        <p:spPr>
          <a:xfrm>
            <a:off x="4427640" y="2133720"/>
            <a:ext cx="1814400" cy="20923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"/>
          <p:cNvPicPr/>
          <p:nvPr/>
        </p:nvPicPr>
        <p:blipFill>
          <a:blip r:embed="rId3"/>
          <a:stretch/>
        </p:blipFill>
        <p:spPr>
          <a:xfrm>
            <a:off x="1403280" y="4365720"/>
            <a:ext cx="2305080" cy="2119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"/>
          <p:cNvPicPr/>
          <p:nvPr/>
        </p:nvPicPr>
        <p:blipFill>
          <a:blip r:embed="rId4"/>
          <a:stretch/>
        </p:blipFill>
        <p:spPr>
          <a:xfrm>
            <a:off x="3564000" y="4437000"/>
            <a:ext cx="1800000" cy="21099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8" descr=""/>
          <p:cNvPicPr/>
          <p:nvPr/>
        </p:nvPicPr>
        <p:blipFill>
          <a:blip r:embed="rId5"/>
          <a:stretch/>
        </p:blipFill>
        <p:spPr>
          <a:xfrm>
            <a:off x="6875640" y="4392720"/>
            <a:ext cx="1368360" cy="2230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1" descr=""/>
          <p:cNvPicPr/>
          <p:nvPr/>
        </p:nvPicPr>
        <p:blipFill>
          <a:blip r:embed="rId6"/>
          <a:stretch/>
        </p:blipFill>
        <p:spPr>
          <a:xfrm>
            <a:off x="6948360" y="2205000"/>
            <a:ext cx="18003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Главные части 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скелета позвоночных животных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719280" y="1915920"/>
            <a:ext cx="8424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rbel"/>
              </a:rPr>
              <a:t>*Осевой скелет – </a:t>
            </a:r>
            <a:r>
              <a:rPr b="1" i="1" lang="ru-RU" sz="4400" spc="-1" strike="noStrike">
                <a:solidFill>
                  <a:srgbClr val="ff0000"/>
                </a:solidFill>
                <a:latin typeface="Corbel"/>
              </a:rPr>
              <a:t>позвоночник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rbel"/>
              </a:rPr>
              <a:t>*Скелет конечностей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orbel"/>
              </a:rPr>
              <a:t>(</a:t>
            </a:r>
            <a:r>
              <a:rPr b="1" i="1" lang="ru-RU" sz="4400" spc="-1" strike="noStrike">
                <a:solidFill>
                  <a:srgbClr val="002060"/>
                </a:solidFill>
                <a:latin typeface="Corbel"/>
              </a:rPr>
              <a:t>скелет свободных конечностей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orbel"/>
              </a:rPr>
              <a:t>и их поясов</a:t>
            </a:r>
            <a:r>
              <a:rPr b="1" lang="ru-RU" sz="4400" spc="-1" strike="noStrike">
                <a:solidFill>
                  <a:srgbClr val="002060"/>
                </a:solidFill>
                <a:latin typeface="Corbe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Corbel"/>
              </a:rPr>
              <a:t>* Скелет головы - </a:t>
            </a:r>
            <a:r>
              <a:rPr b="1" i="1" lang="ru-RU" sz="4400" spc="-1" strike="noStrike">
                <a:solidFill>
                  <a:srgbClr val="009900"/>
                </a:solidFill>
                <a:latin typeface="Corbel"/>
              </a:rPr>
              <a:t>череп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468720" y="1052280"/>
            <a:ext cx="104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Каковы особенности строения позвонка?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Почему появление позвонков 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в осевом скелете 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является важной прогрессивной чертой? 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Прямоугольник 2"/>
          <p:cNvSpPr/>
          <p:nvPr/>
        </p:nvSpPr>
        <p:spPr>
          <a:xfrm>
            <a:off x="1332000" y="4724280"/>
            <a:ext cx="6840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770f"/>
                </a:solidFill>
                <a:latin typeface="Calibri"/>
              </a:rPr>
              <a:t>рис. 147 на стр. 195 учебник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203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476360" y="1125000"/>
            <a:ext cx="7129440" cy="2232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Опорно-двигательная система животных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(</a:t>
            </a:r>
            <a:r>
              <a:rPr b="1" i="1" lang="ru-RU" sz="6000" spc="-1" strike="noStrike">
                <a:solidFill>
                  <a:srgbClr val="320e04"/>
                </a:solidFill>
                <a:latin typeface="Corbel"/>
              </a:rPr>
              <a:t>эволюция строения</a:t>
            </a:r>
            <a:r>
              <a:rPr b="1" lang="ru-RU" sz="6000" spc="-1" strike="noStrike">
                <a:solidFill>
                  <a:srgbClr val="320e04"/>
                </a:solidFill>
                <a:latin typeface="Corbe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Строение позвон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Позвонки придают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 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скелету прочность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    </a:t>
            </a:r>
            <a:r>
              <a:rPr b="1" i="1" lang="ru-RU" sz="3200" spc="-1" strike="noStrike">
                <a:solidFill>
                  <a:srgbClr val="002060"/>
                </a:solidFill>
                <a:latin typeface="Corbel"/>
              </a:rPr>
              <a:t>и гибкость, защищают спинной мозг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31878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"/>
          <p:cNvSpPr/>
          <p:nvPr/>
        </p:nvSpPr>
        <p:spPr>
          <a:xfrm>
            <a:off x="71280" y="262080"/>
            <a:ext cx="9072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Задание группа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Calibri"/>
                <a:ea typeface="Calibri"/>
              </a:rPr>
              <a:t>выявить </a:t>
            </a:r>
            <a:r>
              <a:rPr b="1" i="1" lang="ru-RU" sz="3200" spc="-1" strike="noStrike" u="sng">
                <a:solidFill>
                  <a:srgbClr val="611617"/>
                </a:solidFill>
                <a:uFillTx/>
                <a:latin typeface="Calibri"/>
                <a:ea typeface="Calibri"/>
              </a:rPr>
              <a:t>особенности строения скелет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11617"/>
                </a:solidFill>
                <a:uFillTx/>
                <a:latin typeface="Calibri"/>
                <a:ea typeface="Calibri"/>
              </a:rPr>
              <a:t>рыб, земноводных, пресмыкающихс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11617"/>
                </a:solidFill>
                <a:uFillTx/>
                <a:latin typeface="Calibri"/>
                <a:ea typeface="Calibri"/>
              </a:rPr>
              <a:t>птиц, млекопитающи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Calibri"/>
                <a:ea typeface="Calibri"/>
              </a:rPr>
              <a:t>(работа с учебником, ТПО и карточками – 3мин.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Calibri"/>
                <a:ea typeface="Calibri"/>
              </a:rPr>
              <a:t>выступления – по 2мин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Задание эксперта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Calibri"/>
                <a:ea typeface="Calibri"/>
              </a:rPr>
              <a:t>подготовить вывод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Calibri"/>
                <a:ea typeface="Calibri"/>
              </a:rPr>
              <a:t>об основных направления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Calibri"/>
                <a:ea typeface="Calibri"/>
              </a:rPr>
              <a:t>эволюции скелетов позвоночных живот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Позвоночные (Рыбы)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7201080" cy="54007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572314"/>
                </a:solidFill>
                <a:latin typeface="Corbel"/>
              </a:rPr>
              <a:t>Позвоночные(Земноводные)</a:t>
            </a:r>
            <a:endParaRPr b="0" lang="en-US" sz="4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0" name="Picture 5" descr="Картинка 3 из 627"/>
          <p:cNvPicPr/>
          <p:nvPr/>
        </p:nvPicPr>
        <p:blipFill>
          <a:blip r:embed="rId1"/>
          <a:stretch/>
        </p:blipFill>
        <p:spPr>
          <a:xfrm>
            <a:off x="1403280" y="1413000"/>
            <a:ext cx="702144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Позвоночные(Пресмыкающиеся)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Ящерица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2" name="Picture 4" descr="скелет"/>
          <p:cNvPicPr/>
          <p:nvPr/>
        </p:nvPicPr>
        <p:blipFill>
          <a:blip r:embed="rId1"/>
          <a:stretch/>
        </p:blipFill>
        <p:spPr>
          <a:xfrm>
            <a:off x="95400" y="2133720"/>
            <a:ext cx="90486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-171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Позвоночные (Птицы)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4" name="Picture 5" descr="06060201"/>
          <p:cNvPicPr/>
          <p:nvPr/>
        </p:nvPicPr>
        <p:blipFill>
          <a:blip r:embed="rId1"/>
          <a:stretch/>
        </p:blipFill>
        <p:spPr>
          <a:xfrm>
            <a:off x="1692360" y="765000"/>
            <a:ext cx="698328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89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203"/>
                </a:solidFill>
                <a:latin typeface="Corbel"/>
              </a:rPr>
              <a:t>Особенности скелета птиц, связанные с полетом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6" name="Picture 3" descr="1"/>
          <p:cNvPicPr/>
          <p:nvPr/>
        </p:nvPicPr>
        <p:blipFill>
          <a:blip r:embed="rId1"/>
          <a:stretch/>
        </p:blipFill>
        <p:spPr>
          <a:xfrm>
            <a:off x="2814480" y="1523880"/>
            <a:ext cx="3043440" cy="492948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4"/>
          <p:cNvSpPr/>
          <p:nvPr/>
        </p:nvSpPr>
        <p:spPr>
          <a:xfrm>
            <a:off x="6724800" y="1523880"/>
            <a:ext cx="12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лю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з зуб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6329520" y="389412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иль на груд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1219320" y="2438280"/>
            <a:ext cx="190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инная кость и сложный кресте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Line 7"/>
          <p:cNvSpPr/>
          <p:nvPr/>
        </p:nvSpPr>
        <p:spPr>
          <a:xfrm flipV="1">
            <a:off x="2209680" y="4114440"/>
            <a:ext cx="60984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Line 8"/>
          <p:cNvSpPr/>
          <p:nvPr/>
        </p:nvSpPr>
        <p:spPr>
          <a:xfrm flipH="1">
            <a:off x="5866920" y="190512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Line 9"/>
          <p:cNvSpPr/>
          <p:nvPr/>
        </p:nvSpPr>
        <p:spPr>
          <a:xfrm>
            <a:off x="2590920" y="3124080"/>
            <a:ext cx="129528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Line 10"/>
          <p:cNvSpPr/>
          <p:nvPr/>
        </p:nvSpPr>
        <p:spPr>
          <a:xfrm flipH="1">
            <a:off x="4936680" y="4137120"/>
            <a:ext cx="12193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6080040" y="3443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лоч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Line 12"/>
          <p:cNvSpPr/>
          <p:nvPr/>
        </p:nvSpPr>
        <p:spPr>
          <a:xfrm flipH="1">
            <a:off x="5317920" y="3657600"/>
            <a:ext cx="701640" cy="9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371600" y="129528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жка, строение ки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14"/>
          <p:cNvSpPr/>
          <p:nvPr/>
        </p:nvSpPr>
        <p:spPr>
          <a:xfrm>
            <a:off x="2743200" y="1676520"/>
            <a:ext cx="1355760" cy="326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2837160" y="6053040"/>
            <a:ext cx="8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Line 16"/>
          <p:cNvSpPr/>
          <p:nvPr/>
        </p:nvSpPr>
        <p:spPr>
          <a:xfrm flipV="1">
            <a:off x="3718080" y="6041520"/>
            <a:ext cx="6094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17"/>
          <p:cNvSpPr/>
          <p:nvPr/>
        </p:nvSpPr>
        <p:spPr>
          <a:xfrm>
            <a:off x="6324480" y="26668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инная ше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Line 18"/>
          <p:cNvSpPr/>
          <p:nvPr/>
        </p:nvSpPr>
        <p:spPr>
          <a:xfrm flipH="1">
            <a:off x="5334120" y="28954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 Box 19"/>
          <p:cNvSpPr/>
          <p:nvPr/>
        </p:nvSpPr>
        <p:spPr>
          <a:xfrm>
            <a:off x="457200" y="4038480"/>
            <a:ext cx="190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осшиеся кости хвостового от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20"/>
          <p:cNvSpPr/>
          <p:nvPr/>
        </p:nvSpPr>
        <p:spPr>
          <a:xfrm>
            <a:off x="5940360" y="54450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b2203"/>
                </a:solidFill>
                <a:latin typeface="Calibri"/>
              </a:rPr>
              <a:t>Легкий череп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b2203"/>
                </a:solidFill>
                <a:latin typeface="Calibri"/>
              </a:rPr>
              <a:t>много полых кос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скелет собаки 1"/>
          <p:cNvPicPr/>
          <p:nvPr/>
        </p:nvPicPr>
        <p:blipFill>
          <a:blip r:embed="rId1"/>
          <a:stretch/>
        </p:blipFill>
        <p:spPr>
          <a:xfrm>
            <a:off x="2050920" y="765000"/>
            <a:ext cx="6266160" cy="594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31640" y="-1717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Позвоночные (Млекопитающие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4592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Основные направления эволюции скелета позвоночных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434960" y="1523880"/>
            <a:ext cx="3657600" cy="46641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5327280" y="1341360"/>
            <a:ext cx="38163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 </a:t>
            </a: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дифференцировка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позвоночник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 </a:t>
            </a: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подвижное соединение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шейных позвонков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появление и развитие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грудной клетк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дифференцировка черепа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на мозговой и лицевой отделы,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развитие мозгового отдел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появление и развитие парных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передних и задних конечностей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и их поясов – плечевого и тазового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 </a:t>
            </a: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появление и развитие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частных приспособлени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2d47"/>
                </a:solidFill>
                <a:latin typeface="Corbel"/>
              </a:rPr>
              <a:t>в связи с полетом у птиц и т. п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2"/>
          <a:stretch/>
        </p:blipFill>
        <p:spPr>
          <a:xfrm>
            <a:off x="-108000" y="1341360"/>
            <a:ext cx="55864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233280" y="1645920"/>
            <a:ext cx="901368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436a"/>
                </a:solidFill>
                <a:latin typeface="Calibri"/>
                <a:ea typeface="Calibri"/>
              </a:rPr>
              <a:t>                              </a:t>
            </a:r>
            <a:r>
              <a:rPr b="1" lang="ru-RU" sz="3600" spc="-1" strike="noStrike">
                <a:solidFill>
                  <a:srgbClr val="35436a"/>
                </a:solidFill>
                <a:latin typeface="Calibri"/>
                <a:ea typeface="Calibri"/>
              </a:rPr>
              <a:t>§ 37, ТПО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5436a"/>
                </a:solidFill>
                <a:uFillTx/>
                <a:latin typeface="Calibri"/>
                <a:ea typeface="Calibri"/>
              </a:rPr>
              <a:t>понаблюдать за способами передвиж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5436a"/>
                </a:solidFill>
                <a:uFillTx/>
                <a:latin typeface="Calibri"/>
                <a:ea typeface="Calibri"/>
              </a:rPr>
              <a:t>своих домашних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5436a"/>
                </a:solidFill>
                <a:latin typeface="Calibri"/>
                <a:ea typeface="Calibri"/>
              </a:rPr>
              <a:t>(аквариумных рыб и моллюсков, черепах, птиц, хомяков, кошек, собак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5436a"/>
                </a:solidFill>
                <a:latin typeface="Calibri"/>
                <a:ea typeface="Calibri"/>
              </a:rPr>
              <a:t>а, может быть, и тараканов, моли…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alibri"/>
                <a:ea typeface="Calibri"/>
              </a:rPr>
              <a:t>подготовить небольшой устный рассказ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alibri"/>
                <a:ea typeface="Calibri"/>
              </a:rPr>
              <a:t>о способах их передвиже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alibri"/>
                <a:ea typeface="Calibri"/>
              </a:rPr>
              <a:t>о том, способны ли они менять способ передвиж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alibri"/>
                <a:ea typeface="Calibri"/>
              </a:rPr>
              <a:t>при изменении условий, например, при прикоснове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2314"/>
                </a:solidFill>
                <a:latin typeface="Corbel"/>
              </a:rPr>
              <a:t>Цель урока: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26560" y="2276280"/>
            <a:ext cx="8145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203"/>
                </a:solidFill>
                <a:latin typeface="Corbel"/>
              </a:rPr>
              <a:t>изучить эволюцию строения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203"/>
                </a:solidFill>
                <a:latin typeface="Corbel"/>
              </a:rPr>
              <a:t>опорно-двигательной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203"/>
                </a:solidFill>
                <a:latin typeface="Corbel"/>
              </a:rPr>
              <a:t>системы животных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87280" y="22762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72314"/>
                </a:solidFill>
                <a:latin typeface="Corbel"/>
              </a:rPr>
              <a:t>Биологические задачи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189360" y="323064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436a"/>
                </a:solidFill>
                <a:latin typeface="Calibri"/>
                <a:ea typeface="Calibri"/>
              </a:rPr>
              <a:t>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572314"/>
                </a:solidFill>
                <a:uFillTx/>
                <a:latin typeface="Corbel"/>
              </a:rPr>
              <a:t>Биологическая задача: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О чем свидетельствует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разное положение конечностей относительно туловища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Corbel"/>
              </a:rPr>
              <a:t>у разных классов позвоночных?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15" name="Picture 4" descr="полож кон"/>
          <p:cNvPicPr/>
          <p:nvPr/>
        </p:nvPicPr>
        <p:blipFill>
          <a:blip r:embed="rId1"/>
          <a:stretch/>
        </p:blipFill>
        <p:spPr>
          <a:xfrm>
            <a:off x="1116000" y="2492280"/>
            <a:ext cx="784872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Corbel"/>
              </a:rPr>
              <a:t>Биологическая задача: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250920" y="121500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c4853"/>
                </a:solidFill>
                <a:latin typeface="Calibri"/>
                <a:ea typeface="Calibri"/>
              </a:rPr>
              <a:t>Известно, что рыб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c4853"/>
                </a:solidFill>
                <a:latin typeface="Calibri"/>
                <a:ea typeface="Calibri"/>
              </a:rPr>
              <a:t>не могу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c4853"/>
                </a:solidFill>
                <a:latin typeface="Calibri"/>
                <a:ea typeface="Calibri"/>
              </a:rPr>
              <a:t>поворачивать голову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c4853"/>
                </a:solidFill>
                <a:latin typeface="Calibri"/>
                <a:ea typeface="Calibri"/>
              </a:rPr>
              <a:t>Могут ли это делат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c4853"/>
                </a:solidFill>
                <a:latin typeface="Calibri"/>
                <a:ea typeface="Calibri"/>
              </a:rPr>
              <a:t>лягушки и тритоны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c4853"/>
                </a:solidFill>
                <a:latin typeface="Calibri"/>
                <a:ea typeface="Calibri"/>
              </a:rPr>
              <a:t>Ответ пояснит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1187280" y="4005360"/>
            <a:ext cx="2664000" cy="23097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4716360" y="5097600"/>
            <a:ext cx="3240360" cy="17604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"/>
          <p:cNvPicPr/>
          <p:nvPr/>
        </p:nvPicPr>
        <p:blipFill>
          <a:blip r:embed="rId3"/>
          <a:stretch/>
        </p:blipFill>
        <p:spPr>
          <a:xfrm>
            <a:off x="5651640" y="981000"/>
            <a:ext cx="33130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572314"/>
                </a:solidFill>
                <a:uFillTx/>
                <a:latin typeface="Corbel"/>
              </a:rPr>
              <a:t>Биологическая задача: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189360" y="323064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436a"/>
                </a:solidFill>
                <a:latin typeface="Calibri"/>
                <a:ea typeface="Calibri"/>
              </a:rPr>
              <a:t>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Прямоугольник 4"/>
          <p:cNvSpPr/>
          <p:nvPr/>
        </p:nvSpPr>
        <p:spPr>
          <a:xfrm>
            <a:off x="1692360" y="907920"/>
            <a:ext cx="633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В скелете зме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отсутствует грудная клет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В связи с чем она была утраче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у этих животных?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1547640" y="3429000"/>
            <a:ext cx="2076480" cy="14288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5" descr=""/>
          <p:cNvPicPr/>
          <p:nvPr/>
        </p:nvPicPr>
        <p:blipFill>
          <a:blip r:embed="rId2"/>
          <a:stretch/>
        </p:blipFill>
        <p:spPr>
          <a:xfrm>
            <a:off x="6659640" y="342900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3"/>
          <a:stretch/>
        </p:blipFill>
        <p:spPr>
          <a:xfrm>
            <a:off x="3851280" y="3933720"/>
            <a:ext cx="25542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572314"/>
                </a:solidFill>
                <a:uFillTx/>
                <a:latin typeface="Corbel"/>
              </a:rPr>
              <a:t>Биологическая задача: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189360" y="323064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436a"/>
                </a:solidFill>
                <a:latin typeface="Calibri"/>
                <a:ea typeface="Calibri"/>
              </a:rPr>
              <a:t>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3564000" y="90792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Любой лишний груз был бы помехой при полет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Какие изменения в связи с этим произош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в опорной структуре птиц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9" descr=""/>
          <p:cNvPicPr/>
          <p:nvPr/>
        </p:nvPicPr>
        <p:blipFill>
          <a:blip r:embed="rId1"/>
          <a:stretch/>
        </p:blipFill>
        <p:spPr>
          <a:xfrm>
            <a:off x="4427640" y="4365720"/>
            <a:ext cx="4032000" cy="1384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"/>
          <p:cNvPicPr/>
          <p:nvPr/>
        </p:nvPicPr>
        <p:blipFill>
          <a:blip r:embed="rId2"/>
          <a:stretch/>
        </p:blipFill>
        <p:spPr>
          <a:xfrm>
            <a:off x="0" y="836640"/>
            <a:ext cx="2735280" cy="19447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3"/>
          <a:stretch/>
        </p:blipFill>
        <p:spPr>
          <a:xfrm>
            <a:off x="1403280" y="2492280"/>
            <a:ext cx="2784600" cy="20890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"/>
          <p:cNvPicPr/>
          <p:nvPr/>
        </p:nvPicPr>
        <p:blipFill>
          <a:blip r:embed="rId4"/>
          <a:stretch/>
        </p:blipFill>
        <p:spPr>
          <a:xfrm>
            <a:off x="611280" y="4005360"/>
            <a:ext cx="2808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572314"/>
                </a:solidFill>
                <a:uFillTx/>
                <a:latin typeface="Corbel"/>
              </a:rPr>
              <a:t>Биологическая задача: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89360" y="323064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436a"/>
                </a:solidFill>
                <a:latin typeface="Calibri"/>
                <a:ea typeface="Calibri"/>
              </a:rPr>
              <a:t>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Прямоугольник 4"/>
          <p:cNvSpPr/>
          <p:nvPr/>
        </p:nvSpPr>
        <p:spPr>
          <a:xfrm>
            <a:off x="1619280" y="981000"/>
            <a:ext cx="698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Шея у млекопитающи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имеет разную длину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у собаки она коротка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у жирафа длинна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Чем определяются такие различи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Picture 6" descr=""/>
          <p:cNvPicPr/>
          <p:nvPr/>
        </p:nvPicPr>
        <p:blipFill>
          <a:blip r:embed="rId1"/>
          <a:stretch/>
        </p:blipFill>
        <p:spPr>
          <a:xfrm>
            <a:off x="5724360" y="3933720"/>
            <a:ext cx="2880000" cy="2159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"/>
          <p:cNvPicPr/>
          <p:nvPr/>
        </p:nvPicPr>
        <p:blipFill>
          <a:blip r:embed="rId2"/>
          <a:stretch/>
        </p:blipFill>
        <p:spPr>
          <a:xfrm>
            <a:off x="1116000" y="4005360"/>
            <a:ext cx="35272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Вопрос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332000" y="112536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orbel"/>
                <a:ea typeface="Calibri"/>
              </a:rPr>
              <a:t>О чем говорит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orbel"/>
                <a:ea typeface="Calibri"/>
              </a:rPr>
              <a:t>сходный план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orbel"/>
                <a:ea typeface="Calibri"/>
              </a:rPr>
              <a:t>строения скелетов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orbel"/>
                <a:ea typeface="Calibri"/>
              </a:rPr>
              <a:t>разных позвоночных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orbel"/>
                <a:ea typeface="Calibri"/>
              </a:rPr>
              <a:t>животных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5389560" y="1523880"/>
            <a:ext cx="343224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Вопрос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324000" y="593280"/>
            <a:ext cx="85676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Что лежит в основ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эволюционных изменени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опорно-двигательной систем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6" descr=""/>
          <p:cNvPicPr/>
          <p:nvPr/>
        </p:nvPicPr>
        <p:blipFill>
          <a:blip r:embed="rId1"/>
          <a:stretch/>
        </p:blipFill>
        <p:spPr>
          <a:xfrm>
            <a:off x="179280" y="3141720"/>
            <a:ext cx="2952720" cy="17920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"/>
          <p:cNvPicPr/>
          <p:nvPr/>
        </p:nvPicPr>
        <p:blipFill>
          <a:blip r:embed="rId2"/>
          <a:stretch/>
        </p:blipFill>
        <p:spPr>
          <a:xfrm>
            <a:off x="3348000" y="306864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8" descr=""/>
          <p:cNvPicPr/>
          <p:nvPr/>
        </p:nvPicPr>
        <p:blipFill>
          <a:blip r:embed="rId3"/>
          <a:stretch/>
        </p:blipFill>
        <p:spPr>
          <a:xfrm>
            <a:off x="6516720" y="3068640"/>
            <a:ext cx="2486160" cy="20160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9" descr=""/>
          <p:cNvPicPr/>
          <p:nvPr/>
        </p:nvPicPr>
        <p:blipFill>
          <a:blip r:embed="rId4"/>
          <a:stretch/>
        </p:blipFill>
        <p:spPr>
          <a:xfrm>
            <a:off x="5724360" y="4941720"/>
            <a:ext cx="2376720" cy="17812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0" descr=""/>
          <p:cNvPicPr/>
          <p:nvPr/>
        </p:nvPicPr>
        <p:blipFill>
          <a:blip r:embed="rId5"/>
          <a:stretch/>
        </p:blipFill>
        <p:spPr>
          <a:xfrm>
            <a:off x="1619280" y="4869000"/>
            <a:ext cx="27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Прямоугольник 2"/>
          <p:cNvSpPr/>
          <p:nvPr/>
        </p:nvSpPr>
        <p:spPr>
          <a:xfrm>
            <a:off x="900000" y="2133720"/>
            <a:ext cx="864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* Оп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* Поддерж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остоянной формы т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* Защита клеток, тканей, орга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* Передви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Основные функции 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опорно-двигательной систем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7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«Ступеньки» в изучении эволюции ОДС</a:t>
            </a:r>
            <a:br>
              <a:rPr sz="2800"/>
            </a:b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(от одной систематической группы животных к другой)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23640" y="907920"/>
            <a:ext cx="495612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orbel"/>
              </a:rPr>
              <a:t>*одноклеточные –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00"/>
                </a:solidFill>
                <a:uFillTx/>
                <a:latin typeface="Corbel"/>
              </a:rPr>
              <a:t>многоклеточ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rbel"/>
              </a:rPr>
              <a:t>*беспозвоночные –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rbel"/>
              </a:rPr>
              <a:t>хордов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rbel"/>
              </a:rPr>
              <a:t>*бесчерепные – </a:t>
            </a:r>
            <a:r>
              <a:rPr b="1" lang="ru-RU" sz="2800" spc="-1" strike="noStrike" u="sng">
                <a:solidFill>
                  <a:srgbClr val="006600"/>
                </a:solidFill>
                <a:uFillTx/>
                <a:latin typeface="Corbel"/>
              </a:rPr>
              <a:t>позвоноч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rbel"/>
              </a:rPr>
              <a:t>*разные систематическ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Corbel"/>
              </a:rPr>
              <a:t>группы позвоночных –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00"/>
                </a:solidFill>
                <a:uFillTx/>
                <a:latin typeface="Corbel"/>
              </a:rPr>
              <a:t>рыбы, земноводные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00"/>
                </a:solidFill>
                <a:uFillTx/>
                <a:latin typeface="Corbel"/>
              </a:rPr>
              <a:t>пресмыкающиеся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13920" indent="-243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00"/>
                </a:solidFill>
                <a:uFillTx/>
                <a:latin typeface="Corbel"/>
              </a:rPr>
              <a:t>птицы, млекопитающ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5068800" y="1916280"/>
            <a:ext cx="40752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Простейшие 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(амеба,</a:t>
            </a: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 эвглена, инфузория</a:t>
            </a: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Picture 5" descr="Картинка 12 из 28720"/>
          <p:cNvPicPr/>
          <p:nvPr/>
        </p:nvPicPr>
        <p:blipFill>
          <a:blip r:embed="rId1"/>
          <a:stretch/>
        </p:blipFill>
        <p:spPr>
          <a:xfrm>
            <a:off x="826920" y="1268280"/>
            <a:ext cx="3996000" cy="2706840"/>
          </a:xfrm>
          <a:prstGeom prst="rect">
            <a:avLst/>
          </a:prstGeom>
          <a:ln w="25560">
            <a:solidFill>
              <a:srgbClr val="bb8605"/>
            </a:solidFill>
            <a:miter/>
          </a:ln>
        </p:spPr>
      </p:pic>
      <p:pic>
        <p:nvPicPr>
          <p:cNvPr id="331" name="Picture 5" descr="http://scienceblogs.com/clock/upload/2006/07/Euglena.JPG"/>
          <p:cNvPicPr/>
          <p:nvPr/>
        </p:nvPicPr>
        <p:blipFill>
          <a:blip r:embed="rId2"/>
          <a:stretch/>
        </p:blipFill>
        <p:spPr>
          <a:xfrm>
            <a:off x="2050920" y="4005360"/>
            <a:ext cx="3457800" cy="2609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Картинка 5 из 4977"/>
          <p:cNvPicPr/>
          <p:nvPr/>
        </p:nvPicPr>
        <p:blipFill>
          <a:blip r:embed="rId3"/>
          <a:stretch/>
        </p:blipFill>
        <p:spPr>
          <a:xfrm>
            <a:off x="5508720" y="1197000"/>
            <a:ext cx="331128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Кишечнополостны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Picture 8" descr="стр"/>
          <p:cNvPicPr/>
          <p:nvPr/>
        </p:nvPicPr>
        <p:blipFill>
          <a:blip r:embed="rId1"/>
          <a:srcRect l="0" t="11859" r="0" b="8538"/>
          <a:stretch/>
        </p:blipFill>
        <p:spPr>
          <a:xfrm>
            <a:off x="0" y="2133720"/>
            <a:ext cx="3635280" cy="28940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"/>
          <p:cNvPicPr/>
          <p:nvPr/>
        </p:nvPicPr>
        <p:blipFill>
          <a:blip r:embed="rId2"/>
          <a:stretch/>
        </p:blipFill>
        <p:spPr>
          <a:xfrm>
            <a:off x="3564000" y="1700280"/>
            <a:ext cx="558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2314"/>
                </a:solidFill>
                <a:latin typeface="Corbel"/>
              </a:rPr>
              <a:t>Черви </a:t>
            </a: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(Плоские, Круглые, Кольчатые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7" descr="Картинка 2 из 1624"/>
          <p:cNvPicPr/>
          <p:nvPr/>
        </p:nvPicPr>
        <p:blipFill>
          <a:blip r:embed="rId1"/>
          <a:stretch/>
        </p:blipFill>
        <p:spPr>
          <a:xfrm>
            <a:off x="468360" y="2060640"/>
            <a:ext cx="2952720" cy="3097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Картинка 60 из 2075"/>
          <p:cNvPicPr/>
          <p:nvPr/>
        </p:nvPicPr>
        <p:blipFill>
          <a:blip r:embed="rId2"/>
          <a:stretch/>
        </p:blipFill>
        <p:spPr>
          <a:xfrm>
            <a:off x="3276720" y="1989000"/>
            <a:ext cx="3193920" cy="3527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Картинка 1 из 7396"/>
          <p:cNvPicPr/>
          <p:nvPr/>
        </p:nvPicPr>
        <p:blipFill>
          <a:blip r:embed="rId3"/>
          <a:stretch/>
        </p:blipFill>
        <p:spPr>
          <a:xfrm>
            <a:off x="5688000" y="1773360"/>
            <a:ext cx="3456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38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2314"/>
                </a:solidFill>
                <a:latin typeface="Corbel"/>
              </a:rPr>
              <a:t>Моллюски 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Содержимое 5" descr="800px-Shells01.jpg"/>
          <p:cNvPicPr/>
          <p:nvPr/>
        </p:nvPicPr>
        <p:blipFill>
          <a:blip r:embed="rId1"/>
          <a:stretch/>
        </p:blipFill>
        <p:spPr>
          <a:xfrm>
            <a:off x="1116000" y="1916280"/>
            <a:ext cx="5184720" cy="3889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"/>
          <p:cNvPicPr/>
          <p:nvPr/>
        </p:nvPicPr>
        <p:blipFill>
          <a:blip r:embed="rId2"/>
          <a:stretch/>
        </p:blipFill>
        <p:spPr>
          <a:xfrm>
            <a:off x="6588000" y="19890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"/>
          <p:cNvPicPr/>
          <p:nvPr/>
        </p:nvPicPr>
        <p:blipFill>
          <a:blip r:embed="rId3"/>
          <a:stretch/>
        </p:blipFill>
        <p:spPr>
          <a:xfrm>
            <a:off x="6588000" y="4221000"/>
            <a:ext cx="2286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т</cp:lastModifiedBy>
  <dcterms:modified xsi:type="dcterms:W3CDTF">2013-02-14T15:12:55Z</dcterms:modified>
  <cp:revision>84</cp:revision>
  <dc:subject/>
  <dc:title>Презентация PowerPoint</dc:title>
</cp:coreProperties>
</file>